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4F4-01A6-4A11-A4A7-68F86D9C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8F8-7F98-4642-BEED-D633D5E9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8C6-4C8D-449E-98D0-4CB3F1F2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BC8-24D3-47F8-9C97-E4D804D4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8D3-B21A-4D32-B79F-EA1F9693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506-F4B5-4CB6-9291-D718ED3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811-0B5D-4A26-837A-6B3AF83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906-E507-41B8-9A97-9E2F49AB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013-D390-4F0B-94F2-831BDF0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DC1-3E85-47A6-8D04-1CA119D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6E2-A5ED-4D68-8D48-28C89D7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D61-C109-4C83-8B3F-98A10B9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D252-CD9A-4975-8C0C-BBB43091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Verdana"/>
              </a:rPr>
              <a:t>ROMANIA: LOC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 is in the South East of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ordered by the Black Sea, Bulgaria, Hungary, Moldova, Serbia and Ukra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76760" y="1766880"/>
            <a:ext cx="3981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MOUS SI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mania has other important and beautiful cities such as Iasi, Cluj, Napoca, Timisoara ,Constanta and Crai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e landmarks buildings and monuments can be found in those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259092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81480" y="3938760"/>
            <a:ext cx="2708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n food has been influenced over centuries by invaders and settlers: Greeks, Germans, Tu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ps and salads are popular. Pork is eaten frequ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secakes and pancakes are the favourite dess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2971800" cy="2041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OMANIA: lo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 is located in the South East of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is in the North Hemi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is a continent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53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GIONS IN ROMANI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 has six re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gions are divided into forty cou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’s population was estimated at 22 million in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pital. Language. Relig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 city is Bucha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percentage of the population is Romanian Orthod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ian language is a Romanc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12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EMOCRACY IN ROMANI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Romanian fl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1947 to 1989 Romania had a Communist Dictato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esent days it is governed on the basis of a multi-party democrat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3720" y="3938760"/>
            <a:ext cx="3125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architectural monuments in Romania have been designated UNESCO World Heritage si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08480" y="160020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29718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SCAPE and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mmer is hot with both showers and thunderst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inter is cold with some fog and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mania’s landscape consists of hills, mountains and 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1640" y="1600200"/>
            <a:ext cx="3111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3938760"/>
            <a:ext cx="3276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DAN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nube is the longest river flowing through the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nube Delta is a World Heritag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1960560"/>
            <a:ext cx="2819520" cy="16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38720" y="3956040"/>
            <a:ext cx="2857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OMANIAN ENVIRON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ia has many lakes and 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st and woodland cover a quarter of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 include pines, oaks and fruit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Natural Areas and National Parks were established in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1916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sgow Secondary Schools</cp:lastModifiedBy>
  <dcterms:modified xsi:type="dcterms:W3CDTF">2009-03-03T12:10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